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14E57A-1D48-453A-9D7C-49DDAA986B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3AC5027-7DD4-4C37-B2E0-3C6286A8919D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C368E3-E16C-47B6-9055-0416504C2D67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6C4B-E146-47FF-B3AA-5E0B3646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BCEC-D4EE-460A-92D8-F2017D92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1E3BB-F857-4ABB-AD24-6975391F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7B03E-CA00-4331-A120-9D27A6443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DF7AE-1950-499A-94CE-B03D94B3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02DCE-BE40-4C62-8C8C-0F510418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E2949-F2CF-4D8A-BC69-26EBA8CB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DDA30-0C90-4106-8BC6-9C45ECBD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E7B65-4A22-4982-96BE-BB782338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F4227-B0D4-4E32-81C6-394F6186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EFFB8-AC8E-4E72-B12B-FBDBA65E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E8B79-F0C5-4CA0-A7E4-AF9E8E05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F220-352D-4ACD-A781-F3CCCF756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13B75-7424-444A-AE80-8ED05B322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E39D7-6AEC-4F45-99DC-50157485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7F078-E96C-422D-BD8F-4854C9F2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2210A-57CB-4B56-8C85-759A3DB9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FC6ECC-0A5B-4CDE-91CD-6D56B271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B236B-82F1-4BE4-A4A1-D446B854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E648F-F567-4132-B872-CAA72D95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D58AF-14F3-4D91-A4C6-27B8D528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77C5E-D3A3-4AB5-8491-2B313D74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7611A-1C8E-482A-A690-CD0003B2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C35E-B625-4A3E-B63C-F28C11655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3B688-C591-490F-B205-58F191B1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1963B-EBFF-4D84-8523-B2A1FEF4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3BE4A-CDDB-448D-9CDB-D389E513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749DA-610D-421B-BD51-5CA6B612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AD5568-E553-4C7E-BEED-3646D655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83AC96-497E-44DB-9A72-8DC08055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E4ACC-98CE-417A-B2B7-CD812185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1402AF-6383-470B-A58A-552D7917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BE33C8-C67D-49CA-8D18-10AF95EA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C4A5C-B919-4279-A1B2-15AE930B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648BAC-5776-4EAC-80D8-29912D8C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9ADFE-38B4-4B8A-82C4-C1870DC9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43F5E-4C51-4E2A-93FA-E66E92A6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75E77-1748-4791-800A-73526F6B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8B2F2-48AC-43B6-BA19-FFD2416E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7C13D-3699-4B8B-B66D-521DD7FFA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E23687-ABDF-4ECB-ACAD-CC70D683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9E9D16-211F-4632-B2AC-156E021A5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B2B53-5448-48F8-9BB2-8C2F6ED6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02B1B-3D78-41CA-9653-4BA11C1A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70B46-A596-4D7E-90C5-2BFA6E03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DC10E-5E63-4712-87E9-3C3AE42F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06510-43C2-49C4-B9E9-CA1CCB64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C4263-491D-45B3-B021-AE26CD9BB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5962D-BD41-4E9F-8736-1E3885CF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E75D6E-64D8-44C1-951F-365A127F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B0EF8-A778-4011-A16D-FE10E542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F76F3E-B2BF-4761-9481-A4D33990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5728E-DCE3-4AF2-A698-6F1418D8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E6D7A-4A53-4C9E-A9E1-5EDCCBEE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32DB1-AA12-4848-98EF-8927AE0D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7B5B0-01B7-43CF-8DF0-F1D41F16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D0DC1-7EF8-457D-885F-A75DB8C0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E1051-269F-4F32-9809-135E4ED2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D61CD-4C6B-4D47-A50E-2834513D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B2662-EB8B-47AC-86CF-1241B0A97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853A5-4BD4-4C85-91E6-89DA4EF05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24E8C-4ACB-49EC-84B8-367F7E03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6E101-09EF-49E7-A050-157B03EB8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20FF5C-A2C7-4A3D-AE1E-E2DF6F00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16826-6E5C-4DFB-AC66-B4407700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0C7A19-1AB3-4B83-A7FF-EA3B95F4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2878B-3817-44F6-A009-4054B394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3EA0BF-84D7-42E2-B461-723C0113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62B33-6346-407A-BE9B-8BB6E179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64323-50E2-41CF-B6E9-D0A60FAD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6394E0-8F77-4354-9241-A3CC5005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03431-670D-427C-B3A2-80690FC1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18018B-6DFE-4F2B-A784-442EF3EA7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9CC767-4538-4E2C-A093-CAEC11A4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1493F9-5AE8-49D3-872A-1C24348D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4A7C72-C087-4498-B104-06EFA879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4CDA31-36C0-4C75-BE30-3057263B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DA1231-4CEE-402E-BE54-64BE2C0D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542F1-61BF-4752-A1FD-B48A86EA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1CEA42-B746-498C-9FF5-949F317E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370A8-E964-462B-B9BE-798C79E0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D6BD0E-C03F-4DF7-A731-7FA3EE7B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471E4D-C9DB-454C-937F-82600AD7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08D53B-0CED-45EB-B3EC-27A984D7D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213799-5EE9-4EEB-B3DA-5A8746BB0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EEB36B-6B75-4436-82AA-552CB6B9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3A21D8-6B01-4403-A35D-2A5227EC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21B705-A471-4D01-8C3C-6CFEE059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E7FEC4-1064-4E86-8798-78EE3E0F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45C2CE-ACFA-4741-9D05-2E7E7230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752412-10A3-4728-9711-82289FB4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5A62D6-61F8-435B-A50E-613CA632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9A2F63-D8FD-44FF-99AB-1B81E75E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A5821F-5B6B-4CBF-BE0B-36B134C9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05A7E-503B-4D1B-BEC0-1A5CF876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F6B319-DF44-4E8D-A5C7-0A0DEE8D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20A0FA-7CE8-434D-9807-F9E45FB1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07C71C-4272-42E9-94DE-8A501C4F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E961E5-D952-4791-8018-EA17178B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9C22EA-C57A-459E-BF75-DBD1610C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524ED9-6FF3-4351-A2CF-C87273BD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77E0AD-1515-4880-8779-878F70F6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5037F8-2F5A-4D45-A7DE-F25B8DA4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F6FA73-1EBA-4E8A-AE22-222B36A6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F51-0210-4C43-8267-9A4A1F12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837B23-DD5D-4464-AFCF-389B4F0D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F1FC20-3DB1-4B1A-B70C-A8C65A3E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57B4D3-880D-42F6-8E52-102FEF3B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06DA6-541D-4A37-8525-8BD7C7F8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47DEB3-EDC2-4FC0-BAEC-B8972526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EE1E99-0CE8-443A-B77C-1E082E2D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247F8F-88FC-42B5-BB53-B4F50596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763950-54B9-46AA-B91D-B1BD034E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D16798-3B75-4C27-B692-2CF3DD10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6D3A81-760B-4FE2-BEFF-AD1DA462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BE02A5-72AF-4EE9-AB39-43354267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0062E0-6663-4943-A763-0E0D7A13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622EC7-EE4A-45C4-B4CB-1E8B57ED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C20D21-A386-48B3-8FC8-EEB22714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9B6A64-7FA5-4F69-B4E7-B49B9551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F12136-C28E-4877-9EDA-39B0E3A3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9F8263-0BE9-4BF9-AD3F-B92AC31F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05B9-000F-4CBB-9749-0B6823613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3B7-F2AB-4FBE-B04A-43B14831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CDE27-6769-4E4A-B1C9-EA06F78C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9E3D-CB2D-4FA3-A723-2B59F37BD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8FBE1-C829-4139-B9F5-A11EAC52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E20ED-29BA-4882-A4B3-F6FC626A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012EB-5E8E-40A6-B109-6963DBF2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E49B8-4A9A-4612-84F3-1AC744CF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28F0F-B4BC-49BA-98C6-FF9205BF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6CAC-E2E9-4ECC-BE5F-850EC8C8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59989-EE6F-47FC-A3C4-6F5FB02D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B9C64-9D8A-46F0-B7B5-49AE5003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C454B-A0C2-4000-8124-7555E0A5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89F32-3415-4A42-BA26-5CCD2BEF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01B5-295F-4004-9356-82BAFC0C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5BDD4-D098-4C81-8263-E5C621FB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4A0AE-4EC3-4CFC-AA4E-7E1624D7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42F05-ACC9-46BD-BD64-54E51717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D77EC-0800-4654-A157-E18CF690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38028-2923-4321-BA8F-2F935342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7A9D3-CA35-49AD-897F-1DC0B1FB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99199-DEE0-48D2-87A0-CD7741F0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888CA-6155-4347-AFF5-AD9CE829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A4C4E-6784-40DD-B320-615B086D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0B4B6-B307-41D0-8F2C-FCBAD866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D6C1-B99F-4822-B84A-7B0D1127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77C80-E92A-4197-B2A7-07D5A34D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4E52E-2C80-477A-A239-13B00BC1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B97B6-6A96-4D09-9DEB-C8244738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68400-4FF6-4FF0-9DAF-A65C9B5A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DE987-9ED7-4F9C-8F80-87B09522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6B733-9B39-4C79-BDFF-E4C4EE90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75C66-D9B3-418A-8C53-0FB59E83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3E438-5FCF-42FD-A4C4-A3F3CD30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6A80A-BA92-45E0-AD61-9B7A0DFE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C0E70-75B8-40B3-818C-F5DC6FD3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295-3279-492F-9CE7-EA49CB54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705A4-084E-4037-B884-23A3A93F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C5334-FAE8-42F4-9EA8-7D740702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93738-6849-4A37-8E1C-07458C97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051F2C-E8F2-441B-A6CB-DA5302771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F36E9-192A-49E5-9ED8-1A072D26F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A329B-8AAD-44C5-861B-07972001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16D6A-2459-4211-8405-36136C0B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38BBF-C7F8-463C-8CB9-AAE2355E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CD0A8-A96B-4373-8185-26D0F692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601B3-83ED-4A12-BE6A-D0C5B2EA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C56-C79C-4B68-AA29-BF1A45C2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1DA16-6214-4C57-8483-9399AE47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5596CC-BD57-435E-876B-91B48E43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C839C-1441-4BE7-BDB1-D71F153F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59312-F1CD-4DAB-A481-0B2E63F3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E42C4-A225-47A7-B61E-AC778E93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91BDF-BCCD-4829-8289-2E8888D0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484BC-AC7E-48B5-B30E-B55E1BAD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08691-0359-4863-A71C-745D640C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8C01D-7F8D-4C28-BFCC-E0FFA386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5BDCF-F6D8-4262-984B-ED20AE99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918F5-A71E-4405-9248-1805C22FAE2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0146-278D-4B77-8C3F-F0EE0082598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A30B-AD19-4410-ACDB-304A5C71DDF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3710-DC77-4843-BCA0-3BF3752B774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C525-D3E3-4E92-BD20-9FA04058844F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5627-E8BF-426F-888A-8A4ADCA07EA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BD99-ADF6-4B30-8AB6-731542A8885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9EAB-0407-496A-9D36-2840CD34983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1691-8B51-4329-BB9D-639D40C2244B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8C3C-2954-4F02-AD71-6AF9B379DFC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752B-E778-4184-99FF-5FC4F54D154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4AF5-D2A7-4626-ABB0-BFDE2A3BB45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0357-43FE-4889-8BD0-67C0BC0F6AC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1" descr=""/>
          <p:cNvPicPr/>
          <p:nvPr/>
        </p:nvPicPr>
        <p:blipFill>
          <a:blip r:embed="rId2"/>
          <a:stretch/>
        </p:blipFill>
        <p:spPr>
          <a:xfrm>
            <a:off x="7945560" y="6419880"/>
            <a:ext cx="1784160" cy="2667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31DB-1661-4A09-B378-961CF431CFC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1CF3-3A75-4564-BE75-903F94E06CB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7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7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F078-2371-4CCE-A68D-9FF61A6F70C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4C36-8CC7-444B-90E2-63C336A164B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1EEE-4218-40E4-A83C-AB3E85151F1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4762-007D-42C3-8694-D9813514CBF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6F0D-BA48-4AD5-B8F2-4985B3FF5C7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D540-25BA-4AE2-82A4-50FFAF272D9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E642-6F7C-4529-966E-B4B12412B52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6DF1-29FD-4AAF-85D5-711B80E9261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A345-2DB4-4E36-B2EE-0BA4E5FEE04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EF70-C0CC-4D15-8C23-715EC66AF64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BB3A-B368-4211-A603-0E5F0EA61BD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02 November 2017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F7EB-411F-43BA-AB0A-736AF5B8EC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F48E-BF51-47D8-8C12-E0443869B0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3B7A-AF15-4FC2-8A11-DCAFF6D992F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BC2D-336B-4B5E-971B-12BEDC329EA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A944-A427-46AC-9791-0188C1BEA4E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0018-A5AA-4F14-B46F-33571C7A67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61AF-E576-48D2-AF6B-CF1180CA70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0772-6E99-405B-BCA3-4AC1FCCC05C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EBAF-6375-4087-9B43-D929D5AB2BE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8296-E556-44BC-ABE0-3D1D9F96A54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1F22-A8BD-4808-86EA-4FCFE18D559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8814-2C8B-4498-8B5D-A6E72769BE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DC46-4E89-4FE5-AF5B-8DC2853ED81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48D6-15DD-4F13-BB27-FAA28CCC11A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74E3-C3F8-47AF-B8AD-FD853B766E9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F549-8BA1-496A-85F6-3873324457C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E07B-BCFA-497B-8C98-ABC2937B277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EB11-4200-4798-A0D1-3D8C7FD9C7D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A84D-D799-4A90-96CD-1320EA9BBFF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C4BD-C31F-4819-AD2C-A86827E84A7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B08B-BCB3-40B3-BAB6-390A18E3016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26AF-7B98-4451-8369-115EC58B97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C780D-23A1-46E5-BBFC-402ED6026E5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289F-CC03-4766-952F-779F17F764E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FF80-6712-4264-8DB0-9EDD50F52F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EFFE-8AD0-409C-A753-A6D870DDCC7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01CA-4190-479B-B1CE-961572DE11A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E4DE-906E-4646-9E6F-7FA74B59133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4903-1625-4A5B-8907-82E957DD7D3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A412-FEE8-44CD-98F7-D765B9C1EB3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13D7-8E99-4739-BF66-F630DC3D097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99A5-5FFC-432F-B98A-3DDBBDBE682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F8D2-2E56-4426-AC30-86A9ED4BFE5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01D3-6DBD-4F09-9FB9-58EDE4470AA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2599-B7A1-4AE0-8122-788BC13E87D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1ACC-3F7B-4A7F-8436-7A8BAB4BE8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2AFC-9723-44A3-BBF6-0443E4A1955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1D36-339B-4CD2-A8F7-4263F222B9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1A86-A865-4379-A9DA-DA62F7F1B5A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859A-D1EA-408B-A97C-DA33B0D01AF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C2C0-C1A3-4C85-A3BF-69B9547BBFB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87F3-364F-41D4-8A58-1E60FB62204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9C242-A76B-40C9-9F81-22834340053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0CA0-E073-463C-95D6-2744F3E2E6C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DB3E-B01E-4737-80D0-D605CB4CB7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E080-D38C-40DF-B142-AC72EA2FFD4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18-01-23T11:28:41Z</dcterms:modified>
  <cp:revision>115</cp:revision>
  <dc:subject/>
  <dc:title>Aims and Objectives</dc:title>
</cp:coreProperties>
</file>